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761-2E6B-483E-A58A-7CAE8DD4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028-949B-4ABD-B830-7DB1567C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4E5-20C4-4606-8A51-BB07B132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627-6467-4EBC-9EC2-CE5E3583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2294-AB07-4422-A5BE-15339D0B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97AC-D5BD-403F-BBA2-BFC98FCD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6965-D072-400E-8D78-F6109EC2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E9CE-130A-49D5-8008-2971D93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5312-35BC-4F56-8B13-70B779D8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8D01-6825-4E09-B0AD-AE280AD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FF1C-1B0E-4C9D-B9A0-DFBE859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F03-6E52-4FAA-B017-45916A1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CAD7-9394-4FA4-8903-A98B306D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A0FA-5672-4D51-9F54-C5551EB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26A7-6F07-4C98-894C-37B89C73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21D5-56D8-427D-A7D8-5103F6AC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E410-333A-4BB3-9CCD-B2D0A42A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58C-CD4C-4BF3-AFFC-87C0CED3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DD5-9B8F-4835-94A1-D97E69B8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E56-235D-427B-8657-342AD7AD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28A-BC4E-4CB1-BBB8-DDFB594F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E68-4E9D-4C05-9998-29CDCA1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675-B072-425F-A746-F41834E2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2DB-8D8E-4723-9BE3-22AA72DB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EC46-CDEB-4ABB-B17F-654F21AEF5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7961-F7AF-4F13-9CD5-EB3D0BA139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vedor de D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stalação e Configur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ão L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4. Configurar o arquivo 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    lexm-db.propert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dite o arquivo recém cria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exml-db.properties substituin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 usuario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enha do usuário e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tring de conexão jdb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6335640" cy="167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6520" y="5257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509436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. Configurando os scrip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l.bat e valid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l.sh e valid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tualize a variável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LEXML_HOME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om o caminho do diretório onde o validador foi instal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. Criar as tabelas no ban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ga do banco de d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7. Inserir metadados na base de dados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MySQL utilize a partir da sua aplicação de exportação de metadados inserts do tip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`registro_item` (`id_registro_item`, `tx_metadado_xml`, `cd_status`, `cd_validacao` , `ts_registro_gmt`)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UES('oai:ssinf.senado.gov.br:njur/112321', '$OAI_LEXML', 'N', 'I', UTC_TIMESTAMP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Oracle a instrução modifica-se pouc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registro_item (id_registro_item, tx_metadado_xml, cd_status, cd_validacao , ts_registro_gmt) VALUES('oai:ssinf.senado.gov.br:njur/112321', '$OAI_LEXML', 'N', 'I', sys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bre os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regra de formação da coluna id_registro_item é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_registro_item := prefixo_oai + "/" + chav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prefixo_oai      := 'oai:' + [orgao + "."] + dominio + ":" + sistema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chave            := identificador_interno  + [ ";" + detalhe]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entificador_interno := é a chave do sistema de origem do registr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EXEMPLO: 'oai:ssinf.senado.gov.br:njur/112321'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N' da coluna cd_status significa que o registro é nov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I' da coluna cd_validacao significa que o registro é pendente de validaç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s_registro_gmt deve receber sempre a data atual UTC ('2008-08-08 08:08:08') dependendo do horário de verão são 2 ou 3 horas a mais do que o horário oficial de Brasília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x_metadado_xml deve receber o arquivo XML com os metadados de acordo com o schema lexml_oai.xsd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http://www.lexml.gov.br/sch/oai_lexml.xs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XML de Meta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lexml:LexML xsi:schemaLocation='http://www.lexml.gov.br/oai_lexml http://www.lexml.gov.br/schema/oai_lexml.xsd' xmlns:lexml='http://www.lexml.gov.br/oai_lexml' xmlns:xsi='http://www.w3.org/2001/XMLSchema-instance'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Item formato='text/html' idPublicador='1' tipo='conteudo'&gt;http://www6.senado.gov.br/legislacao/ListaPublicacoes.action?id=223435&lt;/I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Item formato='text/html' idPublicador='1' tipo='metadado'&gt;http://www6.senado.gov.br/legislacao/DetalhaDocumento.action?id=223435&lt;/I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ocumentoIndividual&gt;urn:lex:br:federal:decreto:1988-10-14;96969@inicio.vigencia;publicacao;1988-10-17~texto;pt-br&lt;/DocumentoIndividual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Epigrafe&gt;Decreto n&amp;#186; 96.969, de 14 de outubro de 1988&lt;/Epigraf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Ementa&gt;ABRE AOS MINISTERIOS DA AGRICULTURA E DO INTERIOR, EM FAVOR DE DIVERSAS UNIDADES OR&amp;#199;AMENTARIAS, O CREDITO SUPLEMENTAR DE CZ 3.780.083.000,00, PARA REFOR&amp;#199;O DE DOTA&amp;#199;&amp;#213;ES CONSIGNADAS NO VIGENTE OR&amp;#199;AMENTO.&lt;/Ementa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Relacionamento tipo='publicacao.oficial'&gt;urn:lex:br:imprensa.nacional:publicacao.oficial;diario.oficial.uniao;secao.1:1988-10-17!pag20142&lt;/Relacionamento&gt;&lt;/lexml:LexML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XML de Metadados (Pub. Oficial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lexml:LexML xsi:schemaLocation='http://www.lexml.gov.br/oai_lexml http://www.lexml.gov.br/schema/oai_lexml.xsd' xmlns:lexml='http://www.lexml.gov.br/oai_lexml' xmlns:xsi='http://www.w3.org/2001/XMLSchema-instance'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Item formato='application/pdf' idPublicador='3' tipo='conteudo'&gt;http://www.senado.gov.br/sf/publicacoes/diarios/pdf/CN/2001/04/23042001.pdf&lt;/Item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DocumentoIndividual&gt;urn:lex:br:congresso.nacional:publicacao.oficial;diario.congresso.nacional:2001-04-23&lt;/DocumentoIndividual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Epigrafe&gt;Di&amp;#225;rio do Congresso Nacional. 23/04/2001.&lt;/Epigrafe&gt;&lt;/lexml:LexML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8. Validando os registros novos no banco de dad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validar.bat (se window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h ./validar.sh (se unix/linu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urante o processamento são gerados os arquivos validacao_err.txt e validacao_log.tx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meiro é um relatório dos erros identificados durante a validação e o segundo somente um log dos registros process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e o arquivo validacao_err.txt para identificar os registros com er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Log e os Erros também são registrados no banco de d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ódu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alida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Banco de Dados com registro de meta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grama que valida a estrutura e o perfil dos public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WEB OAI-PM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põe os metadados utilizando o protocolo OAI-PM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763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77040" y="0"/>
            <a:ext cx="3666960" cy="579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4876920" cy="14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8458200" cy="905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5410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Arquivo lexml_nbconfig.xml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Perfis dos publicad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3487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WEB – OAI-PM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riar variável de amb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_HOME com o valor do diretório de instalação do valida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piar arquivo oai.war para um container ja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Tomcat, Jetty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OC4J, em bre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idador - Pas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1. Criar conta no banco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2. Obter o arquivo de prof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3. Copiar o arquivo de configur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4. Configurar o arquivo lexm-db.proper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5. Configurar os scripts de validação e 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6. Criar as tabe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arga dos Meta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7. Inserir metadados na base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8. Validar os metadados inser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ação e Configura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 Criando conta no banco de dados e data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Orac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exemplo utilizando o sql*plu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connect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*digite a senh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CREATE USER lexmluser IDENTIFIED BY lexmlpasswor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DEFAULT TABLESPACE us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TEMPORARY TABLESPACE tem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QUOTA UNLIMITED ON us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GRANT CONNECT TO lexmlus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Mysql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uario@localhost&gt;mysql -uroot -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create database lexmldataba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GRANT ALL PRIVILEGES ON lexmldatabase.* to 'lexmluser'@'localhost' IDENTIFIED BY 'lexmlpassword' WITH GRANT O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FLUSH PRIVILEG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2. Obtendo o arquivo de pro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 arquivo de profile define as combinações possíveis dos elementos localidade, autoridade e tipo de documento de um public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bs: Na fase de implantação, este arquivo XML será enviado por e-mail a partir do preenchimento da planilha "Perfil Provedor Dados.xls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7724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367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828960"/>
            <a:ext cx="11153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 Copiar o arquivo de configuração do banco de dad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estiver utilizando Orac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-ORACLE.properties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ara: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estiver utilizando Mysq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-MYSQL.properties para: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olima</cp:lastModifiedBy>
  <dcterms:modified xsi:type="dcterms:W3CDTF">2008-10-31T10:22:5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